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C11-1BE9-4D54-AB2F-B26B52F2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C5B-9A60-4F83-B8D5-804F541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25C-B36D-42C3-967D-51D29ED7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E5-4987-470E-A7B5-2D63C84B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66AF-EAD8-4F12-BA40-3FDF1BF7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6F85-FD75-49C6-AC1B-DFA70691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526-5557-411F-B28A-5C8D3A4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1FFD-3BE6-47A7-AABD-0D9C44C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4A47-6E8D-40A9-A40A-E80CB931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229-4EC2-4116-9D18-6909A58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334E-7B49-450A-A156-9E1DAAE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295-9EA3-4052-AC95-8AB996FB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AE3D-1F4A-4456-8292-94BF188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BE96-4AA1-44D7-BBA2-B80556C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AFEB-A061-4752-A857-645E5F0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E90-DCED-4C71-A3C7-24EB5B36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D018-197D-4293-80A6-2D8D1EFD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AF9-CEB4-4AB6-96DB-E8C6D5B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2A2-6C22-4E28-992D-DDFAD58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E7C-7559-4C82-A390-A70C248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8BF-97AE-43A4-A8E6-D498BF9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A07-B2C0-4BE3-B831-D54BA68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D76-78BA-4638-B083-0A03448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B50-9945-4CF2-86F3-BB28E96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4C52-2ED9-4072-AB45-B26A13751E99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896-1CB7-4527-9063-FCF75C1FA0DA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7" descr="3D Desktop Wallpapers Books Imagini 3D Desktop cu Carti Vech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 rot="356400">
            <a:off x="2700360" y="2349360"/>
            <a:ext cx="3166920" cy="136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CENTUL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924360" y="602136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istian Silviu Madalin si Andrei Iuliana cls a VI-a B Scoala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cu cls.I-VI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. I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ilinschi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Vernesti.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cart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5004"/>
                </a:solidFill>
                <a:latin typeface="Times New Roman"/>
              </a:rPr>
              <a:t>Scopul proiectului este de a evidentia importanta accentului din Limba  Romana pentru ca toti   elevii sa descopere  cat de folositor este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dbad"/>
                </a:solidFill>
                <a:latin typeface="Times New Roman"/>
              </a:rPr>
              <a:t>SCOPUL PROIECTULU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1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597528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Ce s-ar petrece in cazul in care fonetica Limbii Romane nu ar contine ,,accentul’’ 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0" i="1" lang="en-US" sz="4400" spc="-1" strike="noStrike">
                <a:solidFill>
                  <a:srgbClr val="fddbad"/>
                </a:solidFill>
                <a:latin typeface="Times New Roman"/>
              </a:rPr>
              <a:t>INTREBARE ,,?’’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835280" y="1483920"/>
            <a:ext cx="568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Accentul reprezinta pronuntarea mai intensa o unei silabe dintr-un cuva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dba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fddbad"/>
                </a:solidFill>
                <a:latin typeface="Times New Roman"/>
              </a:rPr>
              <a:t>ACCENTUL  LIMBII  ROMAN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1258920" y="4076640"/>
            <a:ext cx="5400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720" y="3933360"/>
            <a:ext cx="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1547640" y="3933720"/>
            <a:ext cx="547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7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In Limba Romana locul accentului nu este fi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2"/>
          <p:cNvSpPr/>
          <p:nvPr/>
        </p:nvSpPr>
        <p:spPr>
          <a:xfrm>
            <a:off x="250920" y="2327400"/>
            <a:ext cx="5400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4"/>
          <p:cNvSpPr/>
          <p:nvPr/>
        </p:nvSpPr>
        <p:spPr>
          <a:xfrm>
            <a:off x="5292720" y="5084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1619280" y="2781360"/>
            <a:ext cx="583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Acesta se intalneste pe o vocala dintr-o sila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1270842136_86782804_1-Meditatii-la-limba-si-literatura-romana-limba-si-literatura-engleza-Titan-12708421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5640" y="1125360"/>
            <a:ext cx="7201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Accentul joacă un rol important în 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versificaţie, 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unde stabileşte 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ritmul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,dand muzicalitate poezie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In fonetica nu se accentueaz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articole                 -prepoziti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verbe auxiliare          -conjuncti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In unele cazuri accentul are rolul de a deosebi intre ele doua forme gramatica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adun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/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 ad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ú</a:t>
            </a:r>
            <a:r>
              <a:rPr b="0" lang="ro-RO" sz="2400" spc="-1" strike="noStrike">
                <a:solidFill>
                  <a:srgbClr val="e08016"/>
                </a:solidFill>
                <a:latin typeface="Times New Roman"/>
              </a:rPr>
              <a:t>n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-c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nta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cant</a:t>
            </a:r>
            <a:r>
              <a:rPr b="1" lang="ro-RO" sz="24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1" lang="en-US" sz="2400" spc="-1" strike="noStrike">
                <a:solidFill>
                  <a:srgbClr val="e08016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4932360" y="4869000"/>
            <a:ext cx="100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801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scan0005"/>
          <p:cNvPicPr/>
          <p:nvPr/>
        </p:nvPicPr>
        <p:blipFill>
          <a:blip r:embed="rId1"/>
          <a:stretch/>
        </p:blipFill>
        <p:spPr>
          <a:xfrm rot="21461400">
            <a:off x="178920" y="18864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8" descr="1270842136_86782804_1-Meditatii-la-limba-si-literatura-romana-limba-si-literatura-engleza-Titan-1270842136[1]"/>
          <p:cNvPicPr/>
          <p:nvPr/>
        </p:nvPicPr>
        <p:blipFill>
          <a:blip r:embed="rId2"/>
          <a:stretch/>
        </p:blipFill>
        <p:spPr>
          <a:xfrm>
            <a:off x="0" y="3716280"/>
            <a:ext cx="2556000" cy="314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1270842136_86782804_1-Meditatii-la-limba-si-literatura-romana-limba-si-literatura-engleza-Titan-1270842136[1]"/>
          <p:cNvPicPr/>
          <p:nvPr/>
        </p:nvPicPr>
        <p:blipFill>
          <a:blip r:embed="rId3"/>
          <a:stretch/>
        </p:blipFill>
        <p:spPr>
          <a:xfrm>
            <a:off x="6408720" y="3284640"/>
            <a:ext cx="2735280" cy="357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0" descr="scan0003"/>
          <p:cNvPicPr/>
          <p:nvPr/>
        </p:nvPicPr>
        <p:blipFill>
          <a:blip r:embed="rId4"/>
          <a:stretch/>
        </p:blipFill>
        <p:spPr>
          <a:xfrm>
            <a:off x="250920" y="404640"/>
            <a:ext cx="1901880" cy="1719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1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fddbad"/>
                </a:solidFill>
                <a:latin typeface="Times New Roman"/>
              </a:rPr>
              <a:t>ROLUL ACCENTUL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1.   </a:t>
            </a:r>
            <a:r>
              <a:rPr b="1" i="1" lang="en-US" sz="2800" spc="-1" strike="noStrike">
                <a:solidFill>
                  <a:srgbClr val="e08016"/>
                </a:solidFill>
                <a:latin typeface="Times New Roman"/>
              </a:rPr>
              <a:t>D</a:t>
            </a:r>
            <a:r>
              <a:rPr b="1" i="1" lang="ro-RO" sz="2800" spc="-1" strike="noStrike">
                <a:solidFill>
                  <a:srgbClr val="e08016"/>
                </a:solidFill>
                <a:latin typeface="Times New Roman"/>
              </a:rPr>
              <a:t>iferenţiază,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din  punct de vedere al </a:t>
            </a:r>
            <a:r>
              <a:rPr b="0" lang="ro-RO" sz="2800" spc="-1" strike="noStrike" u="sng">
                <a:solidFill>
                  <a:srgbClr val="e08016"/>
                </a:solidFill>
                <a:uFillTx/>
                <a:latin typeface="Times New Roman"/>
              </a:rPr>
              <a:t>sensului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cuvinte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cum ar fi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comp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nie /  compan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í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e;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m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sa / (a) mas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08016"/>
                </a:solidFill>
                <a:latin typeface="Times New Roman"/>
              </a:rPr>
              <a:t>2.   D</a:t>
            </a:r>
            <a:r>
              <a:rPr b="1" i="1" lang="ro-RO" sz="2800" spc="-1" strike="noStrike">
                <a:solidFill>
                  <a:srgbClr val="e08016"/>
                </a:solidFill>
                <a:latin typeface="Times New Roman"/>
              </a:rPr>
              <a:t>iferenţiază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două  forme gramaticale: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ad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ú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nă - vb. la prezent </a:t>
            </a:r>
            <a:br>
              <a:rPr sz="2800"/>
            </a:b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  adun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á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 -  vb. la perfectul simpl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900000" y="148428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708360" y="26370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924360" y="2708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627280" y="27082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3D Desktop Wallpapers Books Imagini 3D Desktop cu Carti Vech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742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In final,va informan ca in cazul in care fonetica Limbii Romane nu ar contine accentul unele dintre cuvinte cum ar fi: 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v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é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selă / ves</a:t>
            </a:r>
            <a:r>
              <a:rPr b="1" lang="ro-RO" sz="2800" spc="-1" strike="noStrike">
                <a:solidFill>
                  <a:srgbClr val="e08016"/>
                </a:solidFill>
                <a:latin typeface="Times New Roman"/>
              </a:rPr>
              <a:t>é</a:t>
            </a:r>
            <a:r>
              <a:rPr b="0" lang="ro-RO" sz="2800" spc="-1" strike="noStrike">
                <a:solidFill>
                  <a:srgbClr val="e08016"/>
                </a:solidFill>
                <a:latin typeface="Times New Roman"/>
              </a:rPr>
              <a:t>lă</a:t>
            </a:r>
            <a:r>
              <a:rPr b="0" lang="en-US" sz="2800" spc="-1" strike="noStrike">
                <a:solidFill>
                  <a:srgbClr val="e08016"/>
                </a:solidFill>
                <a:latin typeface="Times New Roman"/>
              </a:rPr>
              <a:t> nu ar avea sens diferit,iar majoritatea  nu s-ar putea pronunta  co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i="1" lang="en-US" sz="4400" spc="-1" strike="noStrike">
                <a:solidFill>
                  <a:srgbClr val="fddbad"/>
                </a:solidFill>
                <a:latin typeface="Times New Roman"/>
              </a:rPr>
              <a:t>RASPUN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a1[1]"/>
          <p:cNvPicPr/>
          <p:nvPr/>
        </p:nvPicPr>
        <p:blipFill>
          <a:blip r:embed="rId1"/>
          <a:stretch/>
        </p:blipFill>
        <p:spPr>
          <a:xfrm>
            <a:off x="324000" y="5016600"/>
            <a:ext cx="184932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1[1]"/>
          <p:cNvPicPr/>
          <p:nvPr/>
        </p:nvPicPr>
        <p:blipFill>
          <a:blip r:embed="rId2"/>
          <a:stretch/>
        </p:blipFill>
        <p:spPr>
          <a:xfrm>
            <a:off x="6732720" y="3645000"/>
            <a:ext cx="1849320" cy="184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a1[1]"/>
          <p:cNvPicPr/>
          <p:nvPr/>
        </p:nvPicPr>
        <p:blipFill>
          <a:blip r:embed="rId3"/>
          <a:stretch/>
        </p:blipFill>
        <p:spPr>
          <a:xfrm>
            <a:off x="3924360" y="333360"/>
            <a:ext cx="1849320" cy="1841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325080" cy="39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Aici proiectul nostru a luat  sfarsit,iar noi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va multumim cu sinceritate pentru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timpul pe care ni l-ati acodat in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scopul ascultarii a ceea ce am avut </a:t>
            </a:r>
            <a:br>
              <a:rPr sz="4000"/>
            </a:br>
            <a:r>
              <a:rPr b="1" lang="en-US" sz="4000" spc="-1" strike="noStrike">
                <a:solidFill>
                  <a:srgbClr val="fed27a"/>
                </a:solidFill>
                <a:latin typeface="Times New Roman"/>
              </a:rPr>
              <a:t>de spu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0:13:08Z</dcterms:created>
  <dc:creator>Silviu</dc:creator>
  <dc:description/>
  <dc:language>en-US</dc:language>
  <cp:lastModifiedBy>user</cp:lastModifiedBy>
  <dcterms:modified xsi:type="dcterms:W3CDTF">2010-10-04T12:01:43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